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zu wenig frei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Wass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(zu viel Natriu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natr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7480" y="549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natr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wenig frei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ss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lus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o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adäqua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Wasser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9" name=""/>
          <p:cNvCxnSpPr>
            <a:stCxn id="105" idx="3"/>
            <a:endCxn id="10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1006560" y="549360"/>
            <a:ext cx="51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relativ (zu wenig freies Wasser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lust hypo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3"/>
            <a:endCxn id="11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1089720" y="54936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lativ (zu wenig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Verlus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hypo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3"/>
            <a:endCxn id="120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9" idx="3"/>
            <a:endCxn id="12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089720" y="54936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lativ (zu wenig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Verlus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über die 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ku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9720" y="54936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lativ (zu wenig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erlus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über die Nier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akute Niereninsuffizien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3"/>
            <a:endCxn id="12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in Nark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über 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9720" y="54936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relativ (zu wenig freies Wasser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erlust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o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Flüssigkeit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über den Magen-Darm-Trak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2" idx="3"/>
            <a:endCxn id="13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rbreche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urchfal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adäqua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sser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7720" y="549360"/>
            <a:ext cx="69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relativ (zu wenig freies Wasser) &gt; inadäqua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Wasseraufnahm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3"/>
            <a:endCxn id="14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ein Zugang zu Wasse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imäre Hypodipsi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viel Natriu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ückresorp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3"/>
            <a:endCxn id="14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5" name=""/>
          <p:cNvCxnSpPr>
            <a:stCxn id="142" idx="3"/>
            <a:endCxn id="146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837720" y="54936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bsolut (zu viel Natrium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hyperto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51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ückresorp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dosteron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54936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natr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absolut (zu viel Natrium) &gt; Rückresorpti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6:21:56Z</dcterms:modified>
  <cp:revision>329</cp:revision>
  <dc:subject/>
  <dc:title>Vorstellung einer Neuheit</dc:title>
</cp:coreProperties>
</file>